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8351-4818-4F56-8A29-11EBC121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E741-3BA9-4F7A-B265-E30FDCA2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2E06-735D-487D-85C5-2BAE7B8F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AAE1-9F89-4D4F-AE29-0464D897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89DA-8E70-4411-82E2-FA98AAEF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3AB-17AE-4630-9615-0063ACE9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DB57-4F75-4BD9-94BE-BA40E5C6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23BF-02AA-4D58-A11A-12F2187C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B7A8-BC61-4B9B-95D7-01995870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9D68-2044-479F-B8F9-0A108C60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6C5-AA2D-4EB4-B1D0-1B40D27D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FB93-254E-4A23-9755-C5609419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173C-EDB3-4B63-B5C2-DD168DD1C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Death By Co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take to kill a man with pop and can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s I get from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 of pop and 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 Coke (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brand or generic in 2 liter and 20oz. siz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, Mento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br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ballo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predict that a 2 liter bottle of name brand Coke and a single roll of name brand Mentos will produce the highest pressur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I will individually test each combination of generic and name brand soda and Mentos. I will also test different sizes and choose the ones that I think creates the highest pressure to conduct my experiment with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  Second I will test to see if my theory is even reasonable using balloons. I will repeat what I did in the last step using the most powerful combinations only this time placing balloons over the opening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Depending on the results I get I may or may not continue test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2 liter bottle of Diet Coke and also using the generic version the theory test proved successful. Even with a partial package of mentos the ballons ruptured almost immediat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bsolute perfect conditions are created suffocation may be possible but the chances of stomach rupture are next to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4:37:22Z</dcterms:created>
  <dc:creator>STERLING  USD376</dc:creator>
  <dc:description/>
  <dc:language>en-US</dc:language>
  <cp:lastModifiedBy>USD376</cp:lastModifiedBy>
  <dcterms:modified xsi:type="dcterms:W3CDTF">2011-03-28T19:35:52Z</dcterms:modified>
  <cp:revision>4</cp:revision>
  <dc:subject/>
  <dc:title>PowerPoint Presentation</dc:title>
</cp:coreProperties>
</file>